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E1C8-B342-47E1-A017-20AB99A5F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2D81-58E5-431F-A37F-7F77F6E28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8C83-76B1-4AAA-BE76-FA6D8BA2E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2C46-441B-401A-9AB2-DB11031C9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CED6-5987-431A-9826-644AE4682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0178-8C1F-440F-A5C5-A34BCD731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DA4A-65BC-4E44-8C80-738DA22FB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95B9-518E-40CE-A934-CA4AFD68C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8DC2-3231-4783-BCC8-02E7A2A2E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D66E-8BD9-4082-9196-058897465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9ADD-1051-49DB-BF7E-8B9F9283D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3929-AC8B-4757-AC43-7D6A9F314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2449-7252-4C46-8331-20793379C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9CC0-EDAF-4809-8E3F-D8C633A32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EACE-DCFC-4FDF-B611-E29383763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1ED0-5BA2-41A3-8E02-2CA941B89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C1C4-86A7-4911-869C-2707324F3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B22C-6A54-4FDF-B9F1-F2C6D3DBF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52FC-F95C-46A5-87FA-2C9A80481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47F8-FAAD-4EDA-811A-C82A393B8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E392-ED15-4802-9351-8A87775FC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239E-BF41-4463-A418-C44210DAE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F5E8-7B26-4C55-B90F-5B7F16379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11E4-99C5-44C3-AB43-B40933E3C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1658-20F1-40B7-82ED-361CE96E8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CF36-FE29-4437-B16B-9DED42355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0C74-573E-4ACA-A26C-0783EF1AC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614F-0AD8-4FFE-A0A1-247E82681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0BC7-0304-4504-8D27-CA2ED7361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EB95-62DE-45A7-ADA2-5EF674C9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2928-FDAB-4CF9-B6D4-B65012E5A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DECB-3FE4-4625-81BE-DC62DC297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3B10-355D-437D-8BF8-D4C90F4BF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9079-815A-4925-8A7A-8038020B1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729B-D023-499A-AEF9-EBCF9A1E9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22F4-66AE-4D36-A8AA-2845FDCF3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1D97-845B-41D6-B5D0-029CFEF25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0D4C-2ADE-4061-AC0E-DC130EFCD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0FCE-7E6C-468D-9629-977A8EE07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DBAF-D6E1-472F-9EBD-10FB98FE1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A61F-54DD-4AB1-85FF-8CAD4AB93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ACAE-88CC-46E9-9EF0-FD7529E4B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36D6-0407-43F2-A994-73F8B69FA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B6A9-7078-4F53-93AF-29A9CC57A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3BE6-0FC1-4F4A-957B-C038F47E3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1BF7-ED34-4C1F-BE58-87257BEB8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0CDA-C40B-47DE-B057-5C0C2FACD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EC83-82FB-485E-B58A-F46D58133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C47A-1732-480F-A607-202569448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6FA5-8983-4BA6-9F02-147A51E5A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80F8-09DB-4AA6-A4D3-D10F7DA18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36A3-4025-4C6E-871D-ABB6B2B05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0C2-D9C4-4509-95F0-385EA84D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7F6-7416-4046-94EF-2633C2DB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63D-EACB-4133-A343-5529120F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C87-F643-424A-A2B4-5712A8E7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84D-7E62-4F77-93E4-FEDDD209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3A5-14B4-4FA3-9DEE-EBF67A86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E3D-3D3E-40EA-ADC7-27D6FBE5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DB3-7FA6-4284-BC7B-6B4DC15F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18D-C585-4B8A-84D5-FAE32A20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E82-6C9E-456B-8666-4B1480FE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5A3-9413-4938-A66A-C49DE608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565-5188-4320-BE3E-3315543D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5D3C-3065-4116-904D-40108B894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that flows from the sun through organis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 pyram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3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gets less than 25 centimeters of rain or snow each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greens are mainly in this forest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ig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is near the equator and is very w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opical Rainfor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5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ly small plants can grow during a very short warm season in this very cold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undr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05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of same species in same area, at the same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forests lose their leaves in the f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Deciduous Forest Bio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3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light does not reach this deep water and animals eat dead plants that sink from abov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The Deep Se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ter ecosystem has many other animals besides fish that live on la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i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ter Biome cleans the water with it’s soil, plants and other tiny organis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Wetla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al Reefs has two specific characteristics, what are they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hallow warm waters that have sunlight that penetrates the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pu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a place where river water runs into the ocean. Who am I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estu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every organism need to stay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pace, air,water, light, food, and a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uffalo and cattle egret have a symbiotic relationship wh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rganism is helped and the other is not affected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icroorganisms inside a buffalo’s intestines feed off of the buffalo’s digestive system, both organisms are………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oth organisms are help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 parasite inside a buffalo starts to weaken the buffalo or make it sick, one organism is __________ and one is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one organism is helped and one is hu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lace where a species live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ype of symbiosis has lichen’s fungus and bacteria depending on each other to 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tay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eat waste or dead organism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decompos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cannot make our own food, but all animals are us; what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onsu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ake our own food for energy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roduc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uffalo with the parasite inside of it’s body, with the parasite weakening it is called     _ _ _ 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ho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abit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moves through an ecosystem three different ways, which are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ood chains, energy chains, or food web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ole an organism ha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ic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08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the population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ommu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3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0-11-04T17:34:09Z</dcterms:modified>
  <cp:revision>59</cp:revision>
  <dc:subject/>
  <dc:title>No Slide Title</dc:title>
</cp:coreProperties>
</file>